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421914"/>
        <c:axId val="5094582"/>
      </c:barChart>
      <c:catAx>
        <c:axId val="944219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94582"/>
        <c:crosses val="autoZero"/>
        <c:auto val="1"/>
        <c:lblAlgn val="ctr"/>
        <c:lblOffset val="100"/>
        <c:noMultiLvlLbl val="0"/>
      </c:catAx>
      <c:valAx>
        <c:axId val="50945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4219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894C-6FE1-4E38-85F1-F55CA0666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F400-9C14-42A8-9F40-F1395F996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BADA-1B76-4D17-ABAD-B1B48C0DD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D55F-FE45-4D7D-8E12-C1BDDBAA8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3D8E-6E67-491A-8261-AA109624B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7E89-0707-4B58-B49F-376C70731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0B37-280B-43A9-8669-D44373A54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5D3E-FAA5-42F7-A381-A80C77C8B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81DE-6B75-4F82-A731-A80268ED9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F12C-8E90-4B7C-9D9C-575413A0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DA71-6D3E-4A10-ABDE-28D2627E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3B8F-DDDF-453F-A743-0D4B1B1A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DBD68D-8EB7-44CC-992D-357E0842035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