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48943"/>
        <c:axId val="58855689"/>
      </c:barChart>
      <c:catAx>
        <c:axId val="66748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55689"/>
        <c:crosses val="autoZero"/>
        <c:auto val="1"/>
        <c:lblAlgn val="ctr"/>
        <c:lblOffset val="100"/>
        <c:noMultiLvlLbl val="0"/>
      </c:catAx>
      <c:valAx>
        <c:axId val="58855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48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671-1CFA-4D63-95FD-0EAEB9EF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BAC-9314-4A1A-9696-9583224E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D64-65A3-4632-B773-36B6075B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F2E-25AA-4A53-A8A2-CAA34DF3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110-B7ED-4370-937A-B073A95C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6C7-3973-4819-81AC-2E3141C6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00D-183C-4311-8B63-E5D3144E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A93-A870-422A-A67D-A351CF4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3F2-63BF-4BFA-A264-4A8DC7B7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F6D-4B1D-4F99-9786-F2B43BB2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23B-948C-4726-A97D-63EAC38F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D76-951E-46C1-8148-6733F430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B251A-1D78-4726-BF9A-1EE5387307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