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39322"/>
        <c:axId val="45891639"/>
      </c:barChart>
      <c:catAx>
        <c:axId val="31339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91639"/>
        <c:crosses val="autoZero"/>
        <c:auto val="1"/>
        <c:lblAlgn val="ctr"/>
        <c:lblOffset val="100"/>
        <c:noMultiLvlLbl val="0"/>
      </c:catAx>
      <c:valAx>
        <c:axId val="45891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39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E22-1A76-4D2D-B39F-E2550B1B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8FF-98ED-43C3-8A0C-7DF5BD15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EA8-4FE9-498E-AE08-6479C9CC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2CA-4FD0-452E-AF93-D8002E33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46A-594F-4345-9EB6-22E0C346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EEA-EDAC-4CCB-8D03-9641E721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0A5-CFA6-4AF6-A44D-7C224509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F74-80EB-49E3-A7CD-652E4FFD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252-14A4-4659-9C98-3A81FF5A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400-CF32-4C99-A3AF-5BF834FF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280-43D2-4C3A-94A4-8F198289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B8E-0678-42DD-8DB1-E3C8C6D0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E8707-9CEA-4EB7-B65D-021EDE14C0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