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58234"/>
        <c:axId val="22349824"/>
      </c:barChart>
      <c:catAx>
        <c:axId val="39458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49824"/>
        <c:crosses val="autoZero"/>
        <c:auto val="1"/>
        <c:lblAlgn val="ctr"/>
        <c:lblOffset val="100"/>
        <c:noMultiLvlLbl val="0"/>
      </c:catAx>
      <c:valAx>
        <c:axId val="22349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58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5FD-C878-448D-84A9-8EF0165C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F57-E9E2-44EB-84ED-DDA456C3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BE0-CE7E-4C95-858B-6A0E7534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27AA-9A04-4389-A786-2E88BEA9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BFD-C95A-4742-8390-EB3D650B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2A2-43DD-466C-BF1F-6A7C5EAE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B93-02C1-4CB7-95D1-52BA53CD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84F-FDC5-486F-AD9C-35351CDD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414-D8A8-4C6B-905F-E5CBBDAB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75D-5E19-4382-A5AB-A9E1D8CD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8A69-480F-4A8E-AE07-15FC25AB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ABD-2E5B-42A9-8BE1-329E5F7E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5089E-7E29-406B-A5B7-09081864BA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