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41212"/>
        <c:axId val="20216290"/>
      </c:barChart>
      <c:catAx>
        <c:axId val="41141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16290"/>
        <c:crosses val="autoZero"/>
        <c:auto val="1"/>
        <c:lblAlgn val="ctr"/>
        <c:lblOffset val="100"/>
        <c:noMultiLvlLbl val="0"/>
      </c:catAx>
      <c:valAx>
        <c:axId val="20216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41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3CC-8FE5-4D2E-998D-ADFBE9F0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0FD-D9A8-4A39-B52A-810BB1C1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1CE-5712-409A-B751-F5ABFC7D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DD6-DF33-4276-BF76-2F311433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36A-AAEC-4029-BFBF-9BB46714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7B0-D46D-4250-9164-C392BCC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1B5-A95E-4FBA-BF56-C85BA7C4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51A-42F1-414F-8A24-A819141F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F18-307E-40D1-BBBD-3CFBDE0D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13E-F4ED-482C-9984-27DA03E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FE9-7DA7-4E37-8211-010FF12E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8E1-DFF1-4896-9946-27316C97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E2496-EB49-4F0E-8F0A-9977A4DE0D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