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19805"/>
        <c:axId val="33978995"/>
      </c:barChart>
      <c:catAx>
        <c:axId val="24819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8995"/>
        <c:crosses val="autoZero"/>
        <c:auto val="1"/>
        <c:lblAlgn val="ctr"/>
        <c:lblOffset val="100"/>
        <c:noMultiLvlLbl val="0"/>
      </c:catAx>
      <c:valAx>
        <c:axId val="33978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9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A60-9761-46C5-A497-B45469C3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596-0D04-4A10-BCBB-FEDFC50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23D-9CA2-425C-922C-E1C25AFC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080-53D1-42B8-B48C-5EFD68C0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9D7-B653-404B-B5B0-B934DFC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164-229F-4748-BD46-E521BF5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0DC-B0CB-4FFD-AB9F-93C6B9B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AE6-63D1-4A61-A8F5-6EC08805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734-4374-46EC-9FD7-41C9590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E1-9261-4A62-AA59-5405D11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3C1-8A71-4534-861F-7D17567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3F2-4EF2-4A5F-A811-B7E8B27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EB4CC-1DF7-47D7-BE7C-460D7836D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