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11144"/>
        <c:axId val="72744758"/>
      </c:barChart>
      <c:catAx>
        <c:axId val="84511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44758"/>
        <c:crosses val="autoZero"/>
        <c:auto val="1"/>
        <c:lblAlgn val="ctr"/>
        <c:lblOffset val="100"/>
        <c:noMultiLvlLbl val="0"/>
      </c:catAx>
      <c:valAx>
        <c:axId val="72744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11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5B2-8FEB-4D75-BCA4-97A44688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9AF-FF58-4EF2-84DC-EF3A131C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3F6-F839-42E3-B84E-AD60228A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4AF-EFB0-40E1-82B8-C5DFE0EE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512-1A57-4F53-81AE-9A0E7700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BD0-E2F2-4AA1-9BB5-D2CD3383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BE5-6584-4397-9A65-BBD306FC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919-C726-4B04-953D-E0D8ED31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BAC-F246-46D6-8486-115E1AD6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D70-4EEB-4C21-AA2E-751DB22A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653-8890-469F-81BF-BF49D06C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B2C-C99F-4684-A422-379994B3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2AC98-DF43-4D02-9802-D31885161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