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12901"/>
        <c:axId val="50256070"/>
      </c:barChart>
      <c:catAx>
        <c:axId val="66412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56070"/>
        <c:crosses val="autoZero"/>
        <c:auto val="1"/>
        <c:lblAlgn val="ctr"/>
        <c:lblOffset val="100"/>
        <c:noMultiLvlLbl val="0"/>
      </c:catAx>
      <c:valAx>
        <c:axId val="50256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2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50C-1254-4D70-9FB9-B0D0CB19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1BC-0C7F-4100-BCD2-41F59C81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993-1CC2-433E-A648-B5BC5D94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899-7682-4193-B5AB-B91E4865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DDE-5799-4395-9D17-5EFDA32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455-8BF0-446A-89CC-D84EEE1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D86-CF0D-4C68-B3AC-CCFC070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708-C287-4283-A1BA-F7EB706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835-714A-4D1F-8367-413DBC2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CC9-B302-4778-BB70-607A351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96F-2627-4903-8763-EE51DBE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848-AD8E-47F6-8E3F-90CCA35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45B1-0338-4318-8AF7-AD07A36266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