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55383"/>
        <c:axId val="15815640"/>
      </c:barChart>
      <c:catAx>
        <c:axId val="17255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5640"/>
        <c:crosses val="autoZero"/>
        <c:auto val="1"/>
        <c:lblAlgn val="ctr"/>
        <c:lblOffset val="100"/>
        <c:noMultiLvlLbl val="0"/>
      </c:catAx>
      <c:valAx>
        <c:axId val="15815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5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A3F-35BA-4E80-9C2A-496479EE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D8D-73B2-4015-A459-FC0B863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2DB-1EAD-4D0A-9F14-D233D38B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D11-DA1C-4D41-8D98-42D193AF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C9A-43EB-43F6-AAD4-50EBCA1A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B46-8702-4219-9B7E-6E47436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C9A-EA6C-4EE9-A496-4B33CE9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81D-6AD5-4E5A-8630-A95AC0B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9F3-230B-435B-9C00-93DBAC8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2E3-6116-409E-AB98-3A70EB6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8AB-A1E7-47F2-ACC3-6CD992C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70A-6F81-4F5F-87A9-AB39C9A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4713D-3915-4FBE-8F0C-23EFF0A7C9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