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528832"/>
        <c:axId val="71387497"/>
      </c:barChart>
      <c:catAx>
        <c:axId val="98528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87497"/>
        <c:crosses val="autoZero"/>
        <c:auto val="1"/>
        <c:lblAlgn val="ctr"/>
        <c:lblOffset val="100"/>
        <c:noMultiLvlLbl val="0"/>
      </c:catAx>
      <c:valAx>
        <c:axId val="71387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28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250-B8CD-4AA7-82F7-B60DC758A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ECFB-C87D-48B5-9FE9-967D8E23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0D1B-6874-4EA3-A029-BF1710FA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E06-873B-4092-874E-C02BDE1E6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CE9-904B-4AB3-A7A2-76BF00F5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629-E597-4DC9-ABC8-77BA92DA8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8496-435E-41A5-82BF-2E3701ED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AD47-ADFC-4CF5-8D49-D5542E16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E79-2F71-45CE-BD55-F69C2937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72CD-73FA-4E55-9DE4-16839C04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3414-5800-4463-9852-F1AEFCCE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F0C3-27EC-4381-AB25-702E5E93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F9726-015F-4FEA-9C52-AB6934B528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