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17756"/>
        <c:axId val="83103936"/>
      </c:barChart>
      <c:catAx>
        <c:axId val="45117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3936"/>
        <c:crosses val="autoZero"/>
        <c:auto val="1"/>
        <c:lblAlgn val="ctr"/>
        <c:lblOffset val="100"/>
        <c:noMultiLvlLbl val="0"/>
      </c:catAx>
      <c:valAx>
        <c:axId val="83103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17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314-97C6-47B3-B9A6-69F67F11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D46-4D91-488C-83C5-5AC05367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998-DDC4-4586-971D-CB3D9EDF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AD0-3623-424A-B4C6-2DBAAE48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6F9-A304-4D85-A7AB-C1FBA492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1A8-E945-47B4-84A9-1029079C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157-42AB-4421-8236-1DB75E4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FD8-1532-4AB6-8D54-027CAF4F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C6D-4F41-4ECB-A332-12995691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AFD-EE63-41B4-8139-AA24D3AC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308-4B88-4F9B-BB89-9964810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EA9-40A9-4103-9CAA-E743241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0E932-E2F9-4D97-B474-CAA0C5DFC5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