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22267"/>
        <c:axId val="82618904"/>
      </c:barChart>
      <c:catAx>
        <c:axId val="52522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18904"/>
        <c:crosses val="autoZero"/>
        <c:auto val="1"/>
        <c:lblAlgn val="ctr"/>
        <c:lblOffset val="100"/>
        <c:noMultiLvlLbl val="0"/>
      </c:catAx>
      <c:valAx>
        <c:axId val="82618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22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E0E-7585-4C53-BD69-AAF88DF0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8DED-7D77-4692-B467-36145F5B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B2B-3E33-41FE-AAB8-245F7C14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ECE-3DAD-4E55-9124-DBD8639B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37B-8F7F-4144-9D6B-AA5BDBFC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5D4-E01D-43F3-80E4-70C54612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E6E-732D-43B9-93D2-AD965F5A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C21-9CF3-49B5-913B-2A9B763F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FB4-948A-49C8-9E5A-5A42092F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5E6-E2F6-44C4-8F8C-FFB68D36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40A-D777-4724-89ED-2AD0EAE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1F1-87E7-48D4-B477-76BCB925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1B0C8-D395-4682-AE67-99DF02C815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