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72674"/>
        <c:axId val="89148553"/>
      </c:barChart>
      <c:catAx>
        <c:axId val="39472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48553"/>
        <c:crosses val="autoZero"/>
        <c:auto val="1"/>
        <c:lblAlgn val="ctr"/>
        <c:lblOffset val="100"/>
        <c:noMultiLvlLbl val="0"/>
      </c:catAx>
      <c:valAx>
        <c:axId val="89148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2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884-DD32-4978-9AD9-04626D2B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94D-85A1-4642-A75F-D9D543D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BF2-BCA7-438D-872E-A3B15267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1C5-6F4D-47D0-9313-0F493B1D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55C-F0C6-43F9-B77C-8DA53BEA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281-FC23-4F1F-BB46-149C0C6F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84C-014C-49AB-8BF0-78E7C9FA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CDE-4E94-4665-B7F0-569CE1C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906-DAC1-4100-B527-D91822F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25E-07F5-48FA-BC47-207C467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858-4B3E-431A-9A4F-967DC44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52C-29E9-437A-95BE-6D578522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1EFE4-136E-43A3-B480-4A16B853CC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