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52908"/>
        <c:axId val="37772236"/>
      </c:barChart>
      <c:catAx>
        <c:axId val="88052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72236"/>
        <c:crosses val="autoZero"/>
        <c:auto val="1"/>
        <c:lblAlgn val="ctr"/>
        <c:lblOffset val="100"/>
        <c:noMultiLvlLbl val="0"/>
      </c:catAx>
      <c:valAx>
        <c:axId val="37772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52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DA-8027-4ED5-B339-FE043AD7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778-F370-413E-8B30-6CD5FB6E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B20-7B10-4DDC-AF2D-FDDB7A97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1C6-D578-47DC-8002-34F2C1CF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45-5017-4082-A30C-56985A4A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BE7-8183-4622-88BC-2D63210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216-5507-446F-823F-57B80E26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67-625C-40A9-9C0B-1591791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8D6-023D-42F7-9F2C-B4BA188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1D9-008B-4074-B354-8575A66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002-F20D-415E-BC6A-D151703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B57-181F-4BEA-A0E6-167942C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C1184-D8F7-4B91-BF0A-71A71FFC83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