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8022"/>
        <c:axId val="75173706"/>
      </c:barChart>
      <c:catAx>
        <c:axId val="59980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73706"/>
        <c:crosses val="autoZero"/>
        <c:auto val="1"/>
        <c:lblAlgn val="ctr"/>
        <c:lblOffset val="100"/>
        <c:noMultiLvlLbl val="0"/>
      </c:catAx>
      <c:valAx>
        <c:axId val="751737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80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87D-1370-44EE-A9CA-FF93F6BC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707-4A9A-4123-A108-805BE8DD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4ED3-A758-428B-9BFE-05CE4C29F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D0CD-E83C-4834-9FF2-77F87E1FA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0C8-CC97-49E6-897C-60363613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FB42-2C89-40B6-8A67-BA5A402F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14EE-C308-48F1-AAEC-D726F729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F738-7509-4F33-AEDB-03E6722F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EFF-5E94-4E2A-B5E3-B6397CC1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FEB-7B6A-4240-B66B-28890890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075-FDDB-4700-A371-24001B7E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AE7-9BCC-4037-A9DA-C2FC5FB8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5C961-9F20-4363-A030-BD649CE1DC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