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03887"/>
        <c:axId val="48441871"/>
      </c:barChart>
      <c:catAx>
        <c:axId val="82803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41871"/>
        <c:crosses val="autoZero"/>
        <c:auto val="1"/>
        <c:lblAlgn val="ctr"/>
        <c:lblOffset val="100"/>
        <c:noMultiLvlLbl val="0"/>
      </c:catAx>
      <c:valAx>
        <c:axId val="48441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03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1E0-35CB-4B4A-B51E-6E0E1843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5DC-E7FF-43C9-9E25-AA018751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28A-F5C7-4E90-8F7A-7B1B7AC7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1BB-2D74-44DE-BF7E-7D7A924D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918-E30B-49AF-89AC-AABD7BCF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8A7-8995-4E9C-B968-A9737CC4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5F6-52E8-4D07-B587-D7BD695D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D0A-AC47-49DE-B00F-BEBDD3AA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0BB-33DA-4C6D-A88F-70C78843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951-8064-4D8D-8690-0F37B52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CFD-9495-4E33-89BA-C0C21576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311-BEC3-43B1-85B3-FC917193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64C75-CDFF-49BD-9CA7-D7D6FF309D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