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28095"/>
        <c:axId val="50732392"/>
      </c:barChart>
      <c:catAx>
        <c:axId val="905280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32392"/>
        <c:crosses val="autoZero"/>
        <c:auto val="1"/>
        <c:lblAlgn val="ctr"/>
        <c:lblOffset val="100"/>
        <c:noMultiLvlLbl val="0"/>
      </c:catAx>
      <c:valAx>
        <c:axId val="507323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280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CAC-7C00-4D80-BBB3-E1980109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CDE7-398C-4EDF-9719-5F3EA458E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08B1-36CD-4390-9AFC-70356173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CF63-E9EE-4ABE-AC4D-6F916A46B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C7E4-D731-4318-9762-8CEADD8B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3A40-9810-4D12-9C23-65345295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243-A0EC-48E0-9130-D43EB87D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FA7-98A9-44BE-BB5A-66C17903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BCBA-E515-4BE8-838C-9D9B65A83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B63-545E-4A49-B4DD-E4DE0792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BD96-38BA-4890-B99B-469932FE3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291-E8DE-4B04-A55F-5DECB4EB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6F3FE-A368-49FB-AE74-42A8527539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