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153005"/>
        <c:axId val="25933743"/>
      </c:barChart>
      <c:catAx>
        <c:axId val="101530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33743"/>
        <c:crosses val="autoZero"/>
        <c:auto val="1"/>
        <c:lblAlgn val="ctr"/>
        <c:lblOffset val="100"/>
        <c:noMultiLvlLbl val="0"/>
      </c:catAx>
      <c:valAx>
        <c:axId val="259337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530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2FF7-6733-43AA-AC54-35CDFB26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4596-B659-46EC-A17C-183ECC24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5A3A-B9D4-47D4-B729-E7F7C5468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3E41-E81C-4F3F-9BF3-BE6954E6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B565-D059-4C64-9963-43CF0FB9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0308-B3BB-4D44-9196-FB76CF16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D11B-1FA4-49F0-B11D-2EA4BF81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199E-8F54-4588-8736-D4BD676D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AAEA-92CA-4E0E-979F-A305D991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E754-5340-4474-9466-5CF4E6B5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93F1-E8D5-43E3-A748-EE7A730F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2986-5322-465F-9696-1C77E326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78851-3718-4ED1-B0B2-6346E89866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