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86420"/>
        <c:axId val="93095276"/>
      </c:barChart>
      <c:catAx>
        <c:axId val="46986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95276"/>
        <c:crosses val="autoZero"/>
        <c:auto val="1"/>
        <c:lblAlgn val="ctr"/>
        <c:lblOffset val="100"/>
        <c:noMultiLvlLbl val="0"/>
      </c:catAx>
      <c:valAx>
        <c:axId val="93095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6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DED-5B73-4A22-B616-1BA35D44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028-4A08-446C-B707-2BDF78A6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8D7-5344-4F73-956E-97A5073B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8DA-88F7-4C70-9624-7100977F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706-AA11-4CB8-BE08-950CF88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D06-261D-4871-BBA3-4D5C153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FE2-ADB0-47B4-9E3D-85B0093C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B0F-4307-459A-B6C1-B8D2D756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912-0678-46AA-9576-00A6388C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A18-50EA-448E-8F35-7F304C17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332-A679-45B2-A0D8-C63DBB8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497-583A-4EB0-AAE5-7C8555E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F1FF-DDA6-4B32-BCC1-6C6B2E8D8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