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875587"/>
        <c:axId val="8158745"/>
      </c:barChart>
      <c:catAx>
        <c:axId val="538755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58745"/>
        <c:crosses val="autoZero"/>
        <c:auto val="1"/>
        <c:lblAlgn val="ctr"/>
        <c:lblOffset val="100"/>
        <c:noMultiLvlLbl val="0"/>
      </c:catAx>
      <c:valAx>
        <c:axId val="81587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8755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4E58-5AFE-46B0-AF66-5AA80E602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58B6-6923-410A-AA96-E8F90A1C9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C7A9-B71F-4D85-BAA6-E3E908217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A436-6552-4D17-AC4D-B73B3D92F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92A9-3856-414F-BAD8-24D9B7166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3829-4D5A-4F2B-97B6-D28E56F32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A153-4C7C-497C-BD24-71070AA63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3C66-017D-4C6A-B994-311382C9C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EC0B-07C4-46AE-9115-5B4D74CA5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E71E-4DBD-4FE3-A809-0E755DFC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5BD4-443C-46EE-A8CE-889D3548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55D7-648B-4D0F-A19E-FE91410A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670EF6-73B2-4382-A510-C2A911A0C09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