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65745"/>
        <c:axId val="43066089"/>
      </c:barChart>
      <c:catAx>
        <c:axId val="97665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66089"/>
        <c:crosses val="autoZero"/>
        <c:auto val="1"/>
        <c:lblAlgn val="ctr"/>
        <c:lblOffset val="100"/>
        <c:noMultiLvlLbl val="0"/>
      </c:catAx>
      <c:valAx>
        <c:axId val="430660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65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992-B223-482C-A74C-C03659B7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D767-C504-4324-B51E-1EE3379A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5B7-5389-4B26-90FE-F5490273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1923-EF51-49E7-968D-27635A69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2CC-7A7B-4DB0-B3B8-F5530E54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DD9-808B-4381-99B6-4A00CA3B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932-1BA8-4B17-99A0-66E73447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AE6-A856-40A1-B6EA-E7458EB5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DD5-DC60-426E-A4CB-C3C9DF7A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30A-5FB1-45B4-B002-EBB812D7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DB9-C2BA-4DFE-9C77-7BA22114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695-603D-4853-8403-A9C187D3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69180-5434-46FC-AA95-714A8BC1D4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