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44050"/>
        <c:axId val="41883473"/>
      </c:barChart>
      <c:catAx>
        <c:axId val="68444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83473"/>
        <c:crosses val="autoZero"/>
        <c:auto val="1"/>
        <c:lblAlgn val="ctr"/>
        <c:lblOffset val="100"/>
        <c:noMultiLvlLbl val="0"/>
      </c:catAx>
      <c:valAx>
        <c:axId val="418834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44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B66-D8F7-456A-B5B6-F5CFD75E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253B-F05E-49F4-B103-378F4258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3EED-1E90-4BD1-8108-B7E378E5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B04C-83F9-43FD-8B7F-765CC848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3E3-11E3-4CDF-8C40-2F01C94C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A4F6-81CA-47C7-990B-93CF6810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E08D-A467-4709-8C2E-A77BB3B5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188B-D0DE-4E3F-8B0C-C98C53C2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4F3-5F67-46EE-91D1-A3CC873B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5990-33FE-4198-9382-7988B99D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56D9-842C-4611-8C01-57CECD1A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57DF-C9C4-4517-ACD6-108D1E53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D83BA-7E57-42F0-A894-B7F1B77165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