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29178"/>
        <c:axId val="30726323"/>
      </c:barChart>
      <c:catAx>
        <c:axId val="81129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26323"/>
        <c:crosses val="autoZero"/>
        <c:auto val="1"/>
        <c:lblAlgn val="ctr"/>
        <c:lblOffset val="100"/>
        <c:noMultiLvlLbl val="0"/>
      </c:catAx>
      <c:valAx>
        <c:axId val="30726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29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2F7-D6EC-4EE7-94A4-DD6FDD42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4F7-5241-4B97-AA79-8B4A8731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BCB-3309-45B0-8602-6A9A1749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EDD-8C27-4FD6-95A6-DB4BF1B6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6C7-037B-4AEF-8178-22421A1F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717-D7F8-4006-9A94-717FE0E1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FAB-0132-4AF0-AD5E-AFA205F4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46F-088D-4F25-A37A-E82C2E23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28E-F850-4F85-A768-11E577EF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C82-5E91-42E2-84D5-E95096EA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95D-91BD-4C4A-A8B4-B4791187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BF2-1625-4C28-9A11-FD7D0D84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DAF9B-99B4-41C1-AB87-400528CDE5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