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709614"/>
        <c:axId val="60442997"/>
      </c:barChart>
      <c:catAx>
        <c:axId val="447096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42997"/>
        <c:crosses val="autoZero"/>
        <c:auto val="1"/>
        <c:lblAlgn val="ctr"/>
        <c:lblOffset val="100"/>
        <c:noMultiLvlLbl val="0"/>
      </c:catAx>
      <c:valAx>
        <c:axId val="60442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096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20B3-029C-470D-927A-F41841C1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9D1-BBDE-40CC-8064-3E41FEBD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DA3-1409-472D-B2BA-DFB5AFA9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465-636B-45E6-A573-98AAEEFB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F96-2179-4311-8783-008E9EE5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D04E-7709-44AA-A344-297AB66F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D80-C96F-4F7F-8938-492B5736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53CB-78A7-45A9-BEFC-B39D2E05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21A-7271-493F-8208-F371B692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B960-E0C8-4780-A61D-1C6AF951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7E6D-7EDE-4305-8C6B-10B5092C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C78-69A8-4847-A96D-EE28FE7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A6D27-A666-40A7-BB18-E500D07F98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