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78459"/>
        <c:axId val="52011363"/>
      </c:barChart>
      <c:catAx>
        <c:axId val="51478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11363"/>
        <c:crosses val="autoZero"/>
        <c:auto val="1"/>
        <c:lblAlgn val="ctr"/>
        <c:lblOffset val="100"/>
        <c:noMultiLvlLbl val="0"/>
      </c:catAx>
      <c:valAx>
        <c:axId val="52011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78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960-2867-429B-9E98-E02867E6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218-6F22-41B9-A541-B28E6FC2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675-2902-4849-A996-D09D256F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CB2-13C7-45F3-8E27-DC344E0F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969-B9D7-4EA7-A659-7373F52E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985-5155-4AC4-AE35-E5FC57BF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1EB-F65D-49D7-8D55-63392357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838-F756-4293-AEB6-A9151664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721-8B52-483F-BE16-4045E228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68B-AFDF-4159-AFC7-C93E8B40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FB4-BD65-4E36-82B7-8F5C2A24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D88-CCE7-4327-AD4D-A1403C62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6E413-31B9-4383-B55F-E3AA4A198A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