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831947"/>
        <c:axId val="56914709"/>
      </c:barChart>
      <c:catAx>
        <c:axId val="758319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914709"/>
        <c:crosses val="autoZero"/>
        <c:auto val="1"/>
        <c:lblAlgn val="ctr"/>
        <c:lblOffset val="100"/>
        <c:noMultiLvlLbl val="0"/>
      </c:catAx>
      <c:valAx>
        <c:axId val="569147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8319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76DD8-5B13-4467-9605-29720072B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4E95-274B-4240-8193-C2107F461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6AE-58F1-45E5-A6F1-78EFD9B13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9BFC9-D7D2-469A-BE19-1DFA487BD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5BD8-92D4-4054-94EF-E286CE9F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E0EA-71DC-4944-BC26-6FC736247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D678-53C0-444C-AD21-D37E309C1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C10-FA24-41AA-961A-09D60E7F4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089B6-BF56-4562-9ADD-822E20D58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3A34-D447-4642-8C96-CCFE3CD2D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CD550-6EDD-4613-B5E9-64CF9B38C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19A7A-3CD2-4A57-B593-ED06E0CF8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6F2706-3FB6-4A5C-8D02-CF852792EF1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