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078988"/>
        <c:axId val="17839321"/>
      </c:barChart>
      <c:catAx>
        <c:axId val="620789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39321"/>
        <c:crosses val="autoZero"/>
        <c:auto val="1"/>
        <c:lblAlgn val="ctr"/>
        <c:lblOffset val="100"/>
        <c:noMultiLvlLbl val="0"/>
      </c:catAx>
      <c:valAx>
        <c:axId val="178393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789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7149-E6B0-4CA0-9313-CA90B411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2C8D-F679-4A05-9EDE-E32E1F43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7EB-FA85-414F-B802-ED54544D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6E6-5EB4-4F2F-9D23-8B42BA35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550F-844B-4F2E-BE2E-A1061A56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0778-D358-439A-87A6-7DFA211B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202C-EB1F-43A9-B663-90111DC5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ED4-ACD2-46E1-A70A-42D3B969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035B-CCA9-4222-BE33-71DF4D0D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E166-72FD-4261-A26D-6442274E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A0B-7728-48C0-8813-2E78075F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E793-FFF5-41F1-B066-512F5C93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4BDAA-2367-45FF-881B-8922C369FB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