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601894"/>
        <c:axId val="71298442"/>
      </c:barChart>
      <c:catAx>
        <c:axId val="876018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298442"/>
        <c:crosses val="autoZero"/>
        <c:auto val="1"/>
        <c:lblAlgn val="ctr"/>
        <c:lblOffset val="100"/>
        <c:noMultiLvlLbl val="0"/>
      </c:catAx>
      <c:valAx>
        <c:axId val="712984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6018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1C48-2F03-4765-9973-B1E2980A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D724-172C-478F-97EB-2537B5B0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A5D1-C8C4-442A-8EAC-643F94C9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6B2C-394E-495C-BB26-55C055D2F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17F5-A009-4DE8-92CB-97E57E83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2FD1-9471-4C7A-9938-96D2E37C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84F2-BB7E-4F64-9A62-D1AE5552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38DE-FE7B-480A-9E90-F62BC366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61C3-B88B-4DFF-9E14-5B1C621C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E846-1065-4E0D-ACA8-4FBD2E2D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7BA0-31FB-415D-B40B-F320880E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3F35-BF42-431C-8EBA-19D52D22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AAB97-B9E1-48EA-9B12-7E8872A853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