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1190"/>
        <c:axId val="16275851"/>
      </c:barChart>
      <c:catAx>
        <c:axId val="5241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75851"/>
        <c:crosses val="autoZero"/>
        <c:auto val="1"/>
        <c:lblAlgn val="ctr"/>
        <c:lblOffset val="100"/>
        <c:noMultiLvlLbl val="0"/>
      </c:catAx>
      <c:valAx>
        <c:axId val="162758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1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0F14-7272-4F59-8842-E356D8D5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7041-E0FC-4F2C-B169-26FB6E2F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CF4-613F-49B6-A5DF-DBAAB8D9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673-49B5-4E9C-B0E6-A21D51F4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A56-32F0-42DD-85AC-16B362A1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E29-DB62-402C-B346-5FBAB253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644-AEBF-48E7-8F75-203D07BF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B3F5-8806-413B-A28F-1219D20C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425-BD8C-49CB-A72B-3F73A908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3A3-F849-457F-B1C3-7CCD659F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2BD6-45BA-47D5-9B3A-F3EDF5F4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775-ED95-465C-98DF-789329B1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E0663-1C68-472F-A769-1C66ED7583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