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14552"/>
        <c:axId val="25464143"/>
      </c:barChart>
      <c:catAx>
        <c:axId val="24714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4143"/>
        <c:crosses val="autoZero"/>
        <c:auto val="1"/>
        <c:lblAlgn val="ctr"/>
        <c:lblOffset val="100"/>
        <c:noMultiLvlLbl val="0"/>
      </c:catAx>
      <c:valAx>
        <c:axId val="25464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14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77C-14C7-4112-B57A-31FD1D90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0AF-CE80-4687-8B07-1DAC3534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D46-13E7-4FB2-9560-81981873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C04-07A0-42C7-9556-497BBF1D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061-EB63-48B1-8C74-4AD49658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AA3-DFC0-4F22-9C9C-88639A6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9EE-E1F4-46F9-B06B-D0A18151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9E2-9796-4F4B-B2A4-3FBF610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B54-1F63-41D0-AF52-BDAB6689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9BE-58AD-43D8-9CD1-86F5060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C21-8DC1-4625-A3FF-E90A154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686-D6E1-4DE6-BF98-DC2EA48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6C261-D8AB-4B51-9858-227047D76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