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73855"/>
        <c:axId val="86146699"/>
      </c:barChart>
      <c:catAx>
        <c:axId val="521738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46699"/>
        <c:crosses val="autoZero"/>
        <c:auto val="1"/>
        <c:lblAlgn val="ctr"/>
        <c:lblOffset val="100"/>
        <c:noMultiLvlLbl val="0"/>
      </c:catAx>
      <c:valAx>
        <c:axId val="86146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738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8A0-8C53-4A65-8C30-287B58A9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E11-E7C0-45F9-8B40-954A862A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D0C-9E3D-43DE-97C8-0B47F0C9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E2C-BEE4-4DCE-A7DF-6C0F4B55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4B8-CCC2-4F3A-88DB-53BA38CD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8AB7-6C8B-4135-A907-EF153A20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913-34E4-49D1-B552-CEA34B62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832-1B04-4BF4-9F91-13C61847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512-E881-4B4D-BC78-CFA6E797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E71-71E6-4BA9-8155-A86B07EC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D1A-05DD-4B04-9DF2-07967F94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6E4-B5D4-415E-BBFC-12A06F49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559CE-6C2E-4BDD-A2DC-3A0DB54B25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