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10121"/>
        <c:axId val="7761675"/>
      </c:barChart>
      <c:catAx>
        <c:axId val="37510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1675"/>
        <c:crosses val="autoZero"/>
        <c:auto val="1"/>
        <c:lblAlgn val="ctr"/>
        <c:lblOffset val="100"/>
        <c:noMultiLvlLbl val="0"/>
      </c:catAx>
      <c:valAx>
        <c:axId val="7761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10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BE8-B499-4E2D-B2B4-C6F53A41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377-7B6F-49EB-A1F4-4F21CD46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B47-602B-4D42-AF9A-61DD7730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A0B-BC55-48DE-87CA-C4DA40D5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291-E2ED-49BD-96AD-4733A6CA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F57-20F2-47DE-9F05-F65F4E3D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2D0-0015-4F33-A260-1A887507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530-C2AE-4546-B6D1-EFCCD604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CED-5CFE-48CC-919A-E9DF53E3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140-D231-448D-B57E-5A52C3AA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232-B79C-494F-96AF-3BA28859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E69-FA4C-46C8-8F69-B3D9C201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0566C-3BF3-4544-BA62-E4CE901987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