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453150"/>
        <c:axId val="24944750"/>
      </c:barChart>
      <c:catAx>
        <c:axId val="474531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944750"/>
        <c:crosses val="autoZero"/>
        <c:auto val="1"/>
        <c:lblAlgn val="ctr"/>
        <c:lblOffset val="100"/>
        <c:noMultiLvlLbl val="0"/>
      </c:catAx>
      <c:valAx>
        <c:axId val="249447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4531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89EF-53A5-43A1-BEDD-9D5613A29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72D6-74C3-4C20-ABF0-9A0E8475C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8F91-4ECF-4DB8-A619-7F3946EC3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A4A1-46F7-4C22-A041-C2353F882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C6C1-E9DE-4066-A5D0-B96937DF3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3146-9AE3-49EA-9F4F-85D4C7B73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E1C4-0279-4751-9F1E-84863E656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A73A-8419-409A-8E61-16E7C2713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C349-9ECD-4B79-9B71-635F8EC5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BD77-F3A6-4714-B048-1CA02C39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0322-1E15-4625-9A4E-06EDBC7B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5F8F-BCBE-402E-A277-6CA8E643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6801DE-7CCC-4DDF-A0F4-1641559A863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