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0319"/>
        <c:axId val="87061744"/>
      </c:barChart>
      <c:catAx>
        <c:axId val="9940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61744"/>
        <c:crosses val="autoZero"/>
        <c:auto val="1"/>
        <c:lblAlgn val="ctr"/>
        <c:lblOffset val="100"/>
        <c:noMultiLvlLbl val="0"/>
      </c:catAx>
      <c:valAx>
        <c:axId val="87061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203-BAD6-4596-8174-03FF57F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953-6A62-4677-8E2E-2FCA99F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F8E-A62F-4BF8-BC90-ECFCEF83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BDC-4882-450B-9F89-0C0CA2B8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88F-19DF-4F92-97D0-4D5A804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610-101D-4BF9-82F4-F5BE6A2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6FF-AD68-4C62-9CE0-F9B8505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F12-A255-4B76-9455-B340CC0B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B34-41BB-4888-9124-6BE790CB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B0E-6CC0-4E76-80CC-269BFDC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FB9-C3F6-480E-B3D2-131C776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E24-95F2-4DB5-B9DB-2CA8E25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6973D-63A9-4DA3-82EC-3093EDF831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