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1773"/>
        <c:axId val="51918934"/>
      </c:barChart>
      <c:catAx>
        <c:axId val="1521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18934"/>
        <c:crosses val="autoZero"/>
        <c:auto val="1"/>
        <c:lblAlgn val="ctr"/>
        <c:lblOffset val="100"/>
        <c:noMultiLvlLbl val="0"/>
      </c:catAx>
      <c:valAx>
        <c:axId val="51918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1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AAF-92CF-47BB-B7B4-9FB2B373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90E-23B8-4C30-BC09-D51A6044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081-76B3-4E86-864C-F66E3122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F09-CAFA-4D64-8292-6D453ADD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76A-EAC6-4332-8198-2B3AA957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C72-52AC-4188-8068-505783AD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EB6-ACAF-417B-99DE-6F93A12B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7FF-C90B-40DB-AD61-597BB3E0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BA8-C400-4BCC-BA14-16632C6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D6D-4EE3-4F73-B84F-E3151AB6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AEF-E2CB-4A97-A495-3B223AB5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110-AB6F-428D-87A0-B49831C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DA6C-9CC4-4E8D-A2A5-88606D154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